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307-A26F-4E34-9E88-BCBAF262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E76-2812-4C7E-AA33-F2E3BD03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C2F-8A46-49F4-8F64-0E7D00E0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3F9-17C5-4AF9-9F90-2CC5D72C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376-497F-4ECB-8A1A-A1F3ED82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DD6-8EEA-479D-83BC-5EFDFC1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C9D-BD4B-44A4-ACFE-A7D89BA1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392-2B7E-4AFF-A1EC-E3F1EC2E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8C7-C013-4591-9684-6B4B4D1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C7D-106B-40A9-8EE5-4746F765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654-9117-4864-B5F8-B6D7AA99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8D1-8710-46E7-87CB-C138D08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0C79-FD00-4A7F-8D6F-E57D9ADAF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gliari2" descr=""/>
          <p:cNvPicPr/>
          <p:nvPr/>
        </p:nvPicPr>
        <p:blipFill>
          <a:blip r:embed="rId1"/>
          <a:stretch/>
        </p:blipFill>
        <p:spPr>
          <a:xfrm>
            <a:off x="-19080" y="436680"/>
            <a:ext cx="9086760" cy="642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78920" y="304920"/>
            <a:ext cx="65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 - Presenza/assenza dell’offerta scolastica nella provincia di Cagli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34320" y="54100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15200" y="228600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71800" y="68580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71080" y="91440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70000" y="114300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70000" y="160020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71800" y="182880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9907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70000" y="22399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73960" y="24685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73240" y="269712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981080"/>
            <a:ext cx="144360" cy="14472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4495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30481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73960" y="2895480"/>
            <a:ext cx="159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71440" y="33066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1295280"/>
            <a:ext cx="144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676520"/>
            <a:ext cx="14436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7621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25146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2743200"/>
            <a:ext cx="14436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35268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36576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72520" y="350532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396252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70000" y="38862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419112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71080" y="411480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8400" y="4343400"/>
            <a:ext cx="163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4724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99200" y="525780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02440" y="6141960"/>
            <a:ext cx="188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57150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commerciali, 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4952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58752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62564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522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0" y="434340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4046400"/>
            <a:ext cx="14472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6240" y="41911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8941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741840"/>
            <a:ext cx="14436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3733920"/>
            <a:ext cx="14472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84840" y="39704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03600" y="41911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4046400"/>
            <a:ext cx="14436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8941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8941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41148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1911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0464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403848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3434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427500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9625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8941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17600" y="4046400"/>
            <a:ext cx="14472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1227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1148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2320" y="434340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419112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351324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5000" y="381780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65624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198108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6200" y="21337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23623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360600"/>
            <a:ext cx="14472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3352680"/>
            <a:ext cx="14472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34369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93920" y="35053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3040" y="351324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358920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3352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7840" y="3962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3132000"/>
            <a:ext cx="14472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37320" y="328464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360600"/>
            <a:ext cx="14472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51324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513240"/>
            <a:ext cx="14472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13640" y="3665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4046400"/>
            <a:ext cx="14472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48769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8862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38941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42040" y="388620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9400" y="3817800"/>
            <a:ext cx="14472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7120" y="381780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2920" y="4038480"/>
            <a:ext cx="144360" cy="144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404640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244620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446200"/>
            <a:ext cx="144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362320"/>
            <a:ext cx="14436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13240" y="25225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5720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6483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8085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7322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58920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665520"/>
            <a:ext cx="14436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266688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5146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297972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88484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8320" y="27511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8954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37339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80120" y="2209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85040" y="24382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25146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209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0440" y="2133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35132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37120" y="36576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0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scient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05720" y="2895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95280" y="47242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832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00600" y="19810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2286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52680" y="5029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1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class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19810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22860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2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art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3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magistr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716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2286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4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lingu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38280" y="22860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95280" y="47242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86200" y="1828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5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agrari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6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commerc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4648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8600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81680" y="29718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00600" y="19810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2286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1752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7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geometr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47242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81680" y="29718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19810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14600" y="2286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1752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8 - Grado di diversificazione dell’offerta scolastica nella provincia di Cagliari per SLL:</a:t>
            </a:r>
            <a:br>
              <a:rPr sz="16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attività social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19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industr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ristano2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80000" y="304920"/>
            <a:ext cx="665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 - Presenza/assenza dell’offerta scolastica nella provincia di Orist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4100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28600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5840" y="68580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4760" y="91440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3680" y="114300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3680" y="160020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5840" y="182880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99072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93680" y="22399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8000" y="24685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96920" y="269712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1981080"/>
            <a:ext cx="144720" cy="14472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495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04812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7640" y="2895480"/>
            <a:ext cx="159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95480" y="33066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295280"/>
            <a:ext cx="14472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1676520"/>
            <a:ext cx="14472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76212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25146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74320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335268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36576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6200" y="350532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39625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3680" y="38862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4191120"/>
            <a:ext cx="14472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5120" y="411480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2080" y="4343400"/>
            <a:ext cx="163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724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2880" y="525780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6120" y="6141960"/>
            <a:ext cx="188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57150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commerciali, 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4952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58752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62564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9000" y="167652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511344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20574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237024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70440" y="602784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39704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3817800"/>
            <a:ext cx="14436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351324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74800" y="373392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8941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1120" y="3886200"/>
            <a:ext cx="14436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3962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1227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46200" y="3665520"/>
            <a:ext cx="14472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3505320"/>
            <a:ext cx="14472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51120" y="55627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0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nau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6232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1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per il turismo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1828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2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28195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16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6232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2362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3 - Grado di diversificazione dell’offerta scolastica nella provincia di Cagli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post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cagliari" descr=""/>
          <p:cNvPicPr/>
          <p:nvPr/>
        </p:nvPicPr>
        <p:blipFill>
          <a:blip r:embed="rId1"/>
          <a:stretch/>
        </p:blipFill>
        <p:spPr>
          <a:xfrm>
            <a:off x="533520" y="987480"/>
            <a:ext cx="8305560" cy="5870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572000" y="3276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9718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716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66880" y="2362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0" y="3733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4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scient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666880" y="16765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05520" y="2133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2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5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class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352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6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magistr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352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7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lingu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3352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8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artistica (istituti d’arte)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3505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29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commerc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43400" y="55627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52680" y="51055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nuoro2" descr=""/>
          <p:cNvPicPr/>
          <p:nvPr/>
        </p:nvPicPr>
        <p:blipFill>
          <a:blip r:embed="rId1"/>
          <a:stretch/>
        </p:blipFill>
        <p:spPr>
          <a:xfrm>
            <a:off x="76320" y="611280"/>
            <a:ext cx="8839080" cy="6246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78200" y="304920"/>
            <a:ext cx="64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 - Presenza/assenza dell’offerta scolastica nella provincia di Nu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54100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228600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95840" y="68580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4760" y="91440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3680" y="114300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3680" y="160020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5840" y="182880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46800" y="99072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93680" y="22399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0" y="24685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6920" y="269712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1981080"/>
            <a:ext cx="144720" cy="14472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5920" y="44956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304812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97640" y="2895480"/>
            <a:ext cx="159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95480" y="33066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1295280"/>
            <a:ext cx="14472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1676520"/>
            <a:ext cx="14472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76212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38880" y="25146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274320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335268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36576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96200" y="350532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39625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93680" y="38862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4191120"/>
            <a:ext cx="14472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5120" y="411480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2080" y="4343400"/>
            <a:ext cx="163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4724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22880" y="525780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26120" y="6141960"/>
            <a:ext cx="188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57150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commerciali, 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4952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8752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62564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70640" y="39704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220968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82744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0040" y="2903400"/>
            <a:ext cx="144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3132000"/>
            <a:ext cx="14472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5120" y="29718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4419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42040" y="313200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46400" y="4038480"/>
            <a:ext cx="14472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94120" y="374184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388620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36920" y="53341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557064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37120" y="55706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4943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27440" y="50371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5181480"/>
            <a:ext cx="14436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13440" y="502920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65720" y="50371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5189400"/>
            <a:ext cx="144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18000" y="526572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52657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304812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8120" y="32004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3276720"/>
            <a:ext cx="14472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42900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8800" y="34369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84440" y="34290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17800" y="282744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7180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2979720"/>
            <a:ext cx="14472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2827440"/>
            <a:ext cx="14472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29797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9797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75000" y="3132000"/>
            <a:ext cx="144720" cy="144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312408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32004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27640" y="305604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7840" y="267480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62520" y="602784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8520" y="59436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50371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21416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7280" y="1981080"/>
            <a:ext cx="1447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2133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442764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8320" y="4419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9200" y="4419720"/>
            <a:ext cx="1447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48085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5000" y="480060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5200" y="48769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46483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9240" y="4952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495288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46600" y="465624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0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geometr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1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industr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292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2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per il turismo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3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81480" y="2209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4 - Grado di diversificazione dell’offerta scolastica nella provincia di Oristan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post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oristano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7791480" cy="550548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3429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181480" y="2209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5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scient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5334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952880" y="5334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4038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6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class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3886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638680" y="39625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7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magistr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3886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8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lingu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5334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57600" y="5334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39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artistica (istituti d’arte)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52578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sassari2" descr=""/>
          <p:cNvPicPr/>
          <p:nvPr/>
        </p:nvPicPr>
        <p:blipFill>
          <a:blip r:embed="rId1"/>
          <a:stretch/>
        </p:blipFill>
        <p:spPr>
          <a:xfrm>
            <a:off x="0" y="449280"/>
            <a:ext cx="9067680" cy="6408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078560" y="228600"/>
            <a:ext cx="65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 - Presenza/assenza dell’offerta scolastica nella provincia di Sass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53341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2209680"/>
            <a:ext cx="14436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8120" y="6094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7400" y="8380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45960" y="106668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5960" y="152388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8120" y="1752480"/>
            <a:ext cx="12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91520" y="91440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960" y="216360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50280" y="239220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9560" y="26208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91520" y="19051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44197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297180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50280" y="2819520"/>
            <a:ext cx="159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7760" y="323064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1520" y="12193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1600200"/>
            <a:ext cx="144360" cy="144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91520" y="6858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91520" y="243828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91520" y="2666880"/>
            <a:ext cx="144360" cy="144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32767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91520" y="358128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8480" y="342900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91520" y="38862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45960" y="380988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411480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47400" y="403848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64720" y="4267080"/>
            <a:ext cx="163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464832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5520" y="518148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78760" y="6066000"/>
            <a:ext cx="188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563868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commerciali, 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0280" y="48769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10280" y="579924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61801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411480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74600" y="457992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50920" y="434340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43513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41148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1148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43434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904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205740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70640" y="20574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4960800"/>
            <a:ext cx="14472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95680" y="52657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51134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36920" y="4952880"/>
            <a:ext cx="14436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51055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4038480"/>
            <a:ext cx="1447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43434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290340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90920" y="29797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43434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38680" y="1227240"/>
            <a:ext cx="14472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137160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15318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5880" y="297180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2438280"/>
            <a:ext cx="144720" cy="1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2522520"/>
            <a:ext cx="14472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9240" y="2674800"/>
            <a:ext cx="144360" cy="14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51520" y="274320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2400" y="29718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24480" y="266688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37339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8862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396252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41911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41911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94320" y="176040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320040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327672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2846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9520" y="327672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5410080"/>
            <a:ext cx="14436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1523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3657600"/>
            <a:ext cx="14472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76520" y="3741840"/>
            <a:ext cx="14436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350532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3817800"/>
            <a:ext cx="144360" cy="144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365760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22320" y="358128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3581280"/>
            <a:ext cx="144360" cy="144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350532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3741840"/>
            <a:ext cx="144720" cy="144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38098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373392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581280"/>
            <a:ext cx="152280" cy="144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84440" y="35053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2514600"/>
            <a:ext cx="144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19720" y="2743200"/>
            <a:ext cx="152280" cy="14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2979720"/>
            <a:ext cx="144360" cy="14436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3208320"/>
            <a:ext cx="14436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30481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12408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46483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281952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0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commerc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121932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886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33920" y="5334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52880" y="5334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7200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5880" y="20574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62720" y="4114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1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geometr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4267080" y="38862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5334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5880" y="20574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05520" y="46483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2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industr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457200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62720" y="4038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3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per il turismo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5880" y="20574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4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4800600" y="5257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562720" y="4038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5 - Grado di diversificazione dell’offerta scolastica nella provincia di Nuoro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post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nuoro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57628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4800600" y="5257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648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33920" y="4343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43000" y="2971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23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62720" y="40384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6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scient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676520" y="4191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19810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3434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048120" y="27432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2590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038480" y="38098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66880" y="48006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09680" y="33526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0060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7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class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228600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48520" y="25909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038480" y="380988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46483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952880" y="25146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8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art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4952880" y="25146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49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magistr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76520" y="41148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876920" y="32004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362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licei2" descr=""/>
          <p:cNvPicPr/>
          <p:nvPr/>
        </p:nvPicPr>
        <p:blipFill>
          <a:blip r:embed="rId1"/>
          <a:stretch/>
        </p:blipFill>
        <p:spPr>
          <a:xfrm>
            <a:off x="76320" y="436680"/>
            <a:ext cx="9086760" cy="6421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838080" y="7632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19520" y="35053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scienti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18800" y="384012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clas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17360" y="4191120"/>
            <a:ext cx="16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stituto magistral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cio-psico-pedago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317360" y="467820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lingu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62920" y="3581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3886200"/>
            <a:ext cx="15228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2920" y="4267080"/>
            <a:ext cx="152280" cy="22860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62920" y="4724280"/>
            <a:ext cx="152280" cy="15264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640"/>
              <a:gd name="textAreaBottom" fmla="*/ 1191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67080" y="1600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2096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24280" y="22860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190512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358128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4191120"/>
            <a:ext cx="38124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52880" y="48006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38480" y="41148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579132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3657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365760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64832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00600" y="304812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5146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0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liceale linguis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62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1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artistica (istituti d’arte)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2362320" y="34290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2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agrari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411480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3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commerc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411480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343400" y="47242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638680" y="3657600"/>
            <a:ext cx="38124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48120" y="4191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962520" y="23623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4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geometr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14800" y="3809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5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attività sociali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6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industriale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7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naut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8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per il turismo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3434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59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434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638680" y="1905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352680" y="4648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52880" y="32767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33920" y="3048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00600" y="16002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rtistici" descr=""/>
          <p:cNvPicPr/>
          <p:nvPr/>
        </p:nvPicPr>
        <p:blipFill>
          <a:blip r:embed="rId1"/>
          <a:stretch/>
        </p:blipFill>
        <p:spPr>
          <a:xfrm>
            <a:off x="209520" y="380880"/>
            <a:ext cx="8934480" cy="6477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09480" y="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6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artist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55960" y="3535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o art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54160" y="38401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d’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38880" y="3886200"/>
            <a:ext cx="15264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2057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24280" y="20574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10080" y="312408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3429000"/>
            <a:ext cx="3808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4876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828800" y="457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60 - Grado di diversificazione dell’offerta scolastica nella provincia di Sassari per SLL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 – Corsi post qualifica – Numero di indirizzi e/o sperimen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3" name="sassari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8172720" cy="57751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6248520" y="26668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343400" y="4800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38680" y="19051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52680" y="46483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952880" y="3276720"/>
            <a:ext cx="38124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733920" y="3048120"/>
            <a:ext cx="380880" cy="30456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16002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86000" y="335268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76920" y="2514600"/>
            <a:ext cx="380880" cy="304920"/>
          </a:xfrm>
          <a:prstGeom prst="flowChartExtra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33840" bIns="1058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sardegna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8784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851400" y="272880"/>
            <a:ext cx="77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61 - Dislocazione dei centri/agenzie di formazione in Sardegna per tipologia di s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sardegna3" descr=""/>
          <p:cNvPicPr/>
          <p:nvPr/>
        </p:nvPicPr>
        <p:blipFill>
          <a:blip r:embed="rId1"/>
          <a:stretch/>
        </p:blipFill>
        <p:spPr>
          <a:xfrm>
            <a:off x="0" y="304920"/>
            <a:ext cx="9163080" cy="647532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1002960" y="196920"/>
            <a:ext cx="756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62 - Numerosità dei centri/agenzie di formazione in Sardegna e loro dislo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55960" y="1905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87600" y="1066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05320" y="3962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19520" y="2335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352680" y="17524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23353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124080" y="25909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81280" y="2438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30600" y="1905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59200" y="17524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09880" y="21826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038480" y="1954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316400" y="1649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00400" y="2057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402000" y="2057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54280" y="22096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267080" y="18288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16400" y="2209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92720" y="19810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697280" y="1981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2880" y="18288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97280" y="15238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562720" y="1447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78520" y="22860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97280" y="22860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621320" y="2563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25909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45000" y="2743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038480" y="2411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087800" y="2666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81280" y="28954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00400" y="29718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09880" y="3124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316400" y="302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095880" y="1981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21520" y="2438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145200" y="2792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840280" y="30481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35720" y="302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154480" y="29718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25880" y="33526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724280" y="3554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76920" y="3706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800600" y="3859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572000" y="3706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68880" y="40114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840280" y="41641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764320" y="4343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307120" y="4697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307120" y="3935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925880" y="44686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68680" y="42400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73600" y="4316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4080" y="48006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54280" y="47736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5320" y="5078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200400" y="5459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00400" y="5764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21120" y="5764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971800" y="6221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478320" y="62974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02000" y="6068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9880" y="60688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657600" y="5840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87800" y="63738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240080" y="62485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392720" y="6068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43400" y="59166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91120" y="5611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68680" y="55627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97280" y="5840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0" rIns="252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73600" y="55627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21320" y="5459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114800" y="5840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6200" y="5611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087800" y="5486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316400" y="54100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164120" y="5334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16400" y="51814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91120" y="5002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114800" y="51544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51544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164120" y="4849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86200" y="4925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14800" y="4697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343400" y="4724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267080" y="45450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343400" y="4468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621320" y="4925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773600" y="49528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925880" y="49258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800600" y="48006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73600" y="4621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02200" y="5307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81480" y="54594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459400" y="5078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40280" y="54594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56880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15000" y="5867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307120" y="57150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486400" y="5764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316400" y="3886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164120" y="3733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038480" y="3554280"/>
            <a:ext cx="179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59200" y="34290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4164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86200" y="3886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657600" y="3706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429000" y="35542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24080" y="37069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429000" y="37339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8120" y="38862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554280" y="41911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52680" y="439272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505320" y="4468680"/>
            <a:ext cx="17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09880" y="4572000"/>
            <a:ext cx="1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33920" y="41148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62520" y="434340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76720" y="39355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0" rIns="216000" tIns="82800" bIns="64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ecnici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038480" y="1676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1981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2057400"/>
            <a:ext cx="3808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29200" y="175248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33526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62720" y="320040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49528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34290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57600" y="4800600"/>
            <a:ext cx="3808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403848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38480" y="3886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48320" y="4876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2590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365760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548640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54160" y="35053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industr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58120" y="384012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57400" y="42210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51640" y="4572000"/>
            <a:ext cx="161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geomet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886200"/>
            <a:ext cx="15264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4267080"/>
            <a:ext cx="152640" cy="22860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724280"/>
            <a:ext cx="152640" cy="152640"/>
          </a:xfrm>
          <a:custGeom>
            <a:avLst/>
            <a:gdLst>
              <a:gd name="textAreaLeft" fmla="*/ 33480 w 152640"/>
              <a:gd name="textAreaRight" fmla="*/ 119160 w 152640"/>
              <a:gd name="textAreaTop" fmla="*/ 33480 h 152640"/>
              <a:gd name="textAreaBottom" fmla="*/ 1191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-76320"/>
            <a:ext cx="7696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7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(Tecnico industriale, commerciale e per geometr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ecnici2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455600" y="35352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agr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56680" y="384012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le attivit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54160" y="42973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na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51640" y="4648320"/>
            <a:ext cx="16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nico per il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3962520"/>
            <a:ext cx="15264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8880" y="4343400"/>
            <a:ext cx="152640" cy="22860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8880" y="4800600"/>
            <a:ext cx="152640" cy="152280"/>
          </a:xfrm>
          <a:custGeom>
            <a:avLst/>
            <a:gdLst>
              <a:gd name="textAreaLeft" fmla="*/ 33480 w 152640"/>
              <a:gd name="textAreaRight" fmla="*/ 119160 w 15264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7600" y="2209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167652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11430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541008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86400" y="3505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4120" y="49528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472428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19720" y="47242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-76320"/>
            <a:ext cx="7696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8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tecnica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(Tecnico agrario, per le attività sociali,nautico e per il turis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rofessionali" descr=""/>
          <p:cNvPicPr/>
          <p:nvPr/>
        </p:nvPicPr>
        <p:blipFill>
          <a:blip r:embed="rId1"/>
          <a:stretch/>
        </p:blipFill>
        <p:spPr>
          <a:xfrm>
            <a:off x="0" y="3286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80880" y="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v. 9 - Grado di diversificazione dell’offerta scolastica in Sardegna: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struzione profess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7000" y="3352680"/>
            <a:ext cx="167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ia e artigia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15200" y="388620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l’agricoltura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16640" y="457200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 i servizi soc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15200" y="5715000"/>
            <a:ext cx="16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 i servizi alberghieri, della risto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5943600"/>
            <a:ext cx="152280" cy="152280"/>
          </a:xfrm>
          <a:prstGeom prst="pentagon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3623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01520" y="5075280"/>
            <a:ext cx="180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tituto professionale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servizi commercia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ris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19720" y="1295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10080" y="4800600"/>
            <a:ext cx="38124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1828800"/>
            <a:ext cx="38124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205740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320040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37339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91320" y="2514600"/>
            <a:ext cx="38088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3962520"/>
            <a:ext cx="38088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31240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3200400"/>
            <a:ext cx="381240" cy="38088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4800" y="3657600"/>
            <a:ext cx="3808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41148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029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4724280"/>
            <a:ext cx="380880" cy="228600"/>
          </a:xfrm>
          <a:custGeom>
            <a:avLst/>
            <a:gdLst>
              <a:gd name="textAreaLeft" fmla="*/ 103680 w 380880"/>
              <a:gd name="textAreaRight" fmla="*/ 277200 w 380880"/>
              <a:gd name="textAreaTop" fmla="*/ 6192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5" y="21600"/>
                </a:lnTo>
                <a:lnTo>
                  <a:pt x="7425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51055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81280" y="5562720"/>
            <a:ext cx="38124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3505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86600" y="4114800"/>
            <a:ext cx="15228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86600" y="4724280"/>
            <a:ext cx="152280" cy="228600"/>
          </a:xfrm>
          <a:prstGeom prst="diamond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86600" y="533412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0" y="6613560"/>
            <a:ext cx="168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ndagine Censi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7:04:55Z</dcterms:created>
  <dc:creator>C1Ced</dc:creator>
  <dc:description/>
  <dc:language>en-US</dc:language>
  <cp:lastModifiedBy>Roberta Bernardi</cp:lastModifiedBy>
  <dcterms:modified xsi:type="dcterms:W3CDTF">2003-12-23T10:33:36Z</dcterms:modified>
  <cp:revision>18</cp:revision>
  <dc:subject/>
  <dc:title>Presentazione di PowerPoint</dc:title>
</cp:coreProperties>
</file>