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A01-DCCB-4A30-AD22-159BF86B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9F7-A5DD-4E7A-9C06-3844DB2C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D7E-A359-4459-951D-5BC6ED23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AA0-5CF4-4273-A840-C5F38A8C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503-8A81-448A-BC86-04246285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827-0F14-4EE3-A116-8EDFD03E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7C1-1189-47E3-AA1B-64F01F6A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988E-EF41-4F8F-BE16-62A0F7BD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340-B664-4060-8598-2353F5C1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F48-D4E8-4F12-A3A4-03C06E5D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09F-C843-4DE8-982D-E1A23DE0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040-2631-4CCD-97DE-DA3739B8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3FE8-8A7E-40A3-B8B0-3A858CEB8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gliari2" descr=""/>
          <p:cNvPicPr/>
          <p:nvPr/>
        </p:nvPicPr>
        <p:blipFill>
          <a:blip r:embed="rId1"/>
          <a:stretch/>
        </p:blipFill>
        <p:spPr>
          <a:xfrm>
            <a:off x="-19080" y="436680"/>
            <a:ext cx="9086760" cy="6421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78920" y="304920"/>
            <a:ext cx="65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 - Presenza/assenza dell’offerta scolastica nella provincia di Cagli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34320" y="54100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15200" y="2286000"/>
            <a:ext cx="14436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71800" y="68580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scienti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71080" y="91440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class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70000" y="1143000"/>
            <a:ext cx="16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stituto magistrale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ocio-psico-pedagog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70000" y="160020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lingui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71800" y="1828800"/>
            <a:ext cx="12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artistico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d’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99072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70000" y="223992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industr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73960" y="246852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73240" y="269712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1981080"/>
            <a:ext cx="144360" cy="14472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44956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304812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73960" y="2895480"/>
            <a:ext cx="159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71440" y="330660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agr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1295280"/>
            <a:ext cx="144360" cy="1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676520"/>
            <a:ext cx="144360" cy="144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76212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251460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2743200"/>
            <a:ext cx="144360" cy="144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35268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36576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72520" y="3505320"/>
            <a:ext cx="163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le attivit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396252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70000" y="388620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nau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4191120"/>
            <a:ext cx="144360" cy="14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71080" y="4114800"/>
            <a:ext cx="161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il tur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88400" y="4343400"/>
            <a:ext cx="163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ustria e artigian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47242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l’agrico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 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99200" y="525780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i servizi 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02440" y="6141960"/>
            <a:ext cx="188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 i servizi alberghieri, della risto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571500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 i servizi commerciali, turisti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49528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587520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625644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5225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0" y="4343400"/>
            <a:ext cx="14472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4046400"/>
            <a:ext cx="14472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56240" y="419112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3894120"/>
            <a:ext cx="1443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741840"/>
            <a:ext cx="144360" cy="144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3733920"/>
            <a:ext cx="14472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84840" y="397044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03600" y="419112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4046400"/>
            <a:ext cx="144360" cy="144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389412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389412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41148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41911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404640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4038480"/>
            <a:ext cx="144720" cy="144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34340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4275000"/>
            <a:ext cx="144360" cy="144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96252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89412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17600" y="4046400"/>
            <a:ext cx="144720" cy="144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412272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1148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22320" y="4343400"/>
            <a:ext cx="1443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419112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351324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75000" y="3817800"/>
            <a:ext cx="14472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65624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1981080"/>
            <a:ext cx="14436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46200" y="213372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236232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3360600"/>
            <a:ext cx="14472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3352680"/>
            <a:ext cx="144720" cy="14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3436920"/>
            <a:ext cx="1443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93920" y="3505320"/>
            <a:ext cx="14436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3040" y="3513240"/>
            <a:ext cx="14436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3589200"/>
            <a:ext cx="14436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33526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27840" y="39625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3132000"/>
            <a:ext cx="14472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37320" y="328464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360600"/>
            <a:ext cx="144720" cy="144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51324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3513240"/>
            <a:ext cx="144720" cy="14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13640" y="36655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4046400"/>
            <a:ext cx="144720" cy="144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487692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88620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389412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42040" y="3886200"/>
            <a:ext cx="14436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9400" y="3817800"/>
            <a:ext cx="144720" cy="144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7120" y="3817800"/>
            <a:ext cx="144360" cy="144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22920" y="4038480"/>
            <a:ext cx="144360" cy="144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4046400"/>
            <a:ext cx="14436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2446200"/>
            <a:ext cx="14436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2446200"/>
            <a:ext cx="144360" cy="1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362320"/>
            <a:ext cx="144360" cy="144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13240" y="252252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45720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64832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4808520"/>
            <a:ext cx="1443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73220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3589200"/>
            <a:ext cx="14436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3665520"/>
            <a:ext cx="144360" cy="144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2666880"/>
            <a:ext cx="14436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251460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2979720"/>
            <a:ext cx="14472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4884840"/>
            <a:ext cx="14436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8320" y="275112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28954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37339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80120" y="22096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85040" y="24382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251460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22096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70440" y="21337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351324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37120" y="36576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0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scient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236232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05720" y="28954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95280" y="47242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8320" y="3276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800600" y="19810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90920" y="2286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52680" y="50292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1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class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236232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648320" y="3429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724280" y="19810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38280" y="22860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2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artist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236232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648320" y="3429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3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magistr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236232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429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71600" y="47242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4600" y="2286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4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linguist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236232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438280" y="22860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295280" y="47242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86200" y="1828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3276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5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agrari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4648320" y="3429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6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commerci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4648320" y="3429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86000" y="37339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781680" y="29718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00600" y="19810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14600" y="2286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62520" y="17524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7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geometri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4724280" y="33526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81680" y="29718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724280" y="19810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514600" y="2286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8600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17524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8 - Grado di diversificazione dell’offerta scolastica nella provincia di Cagliari per SLL:</a:t>
            </a:r>
            <a:br>
              <a:rPr sz="1600"/>
            </a:b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attività sociali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4572000" y="3276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9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industri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4572000" y="3276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37339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ristano2" descr=""/>
          <p:cNvPicPr/>
          <p:nvPr/>
        </p:nvPicPr>
        <p:blipFill>
          <a:blip r:embed="rId1"/>
          <a:stretch/>
        </p:blipFill>
        <p:spPr>
          <a:xfrm>
            <a:off x="0" y="39528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080000" y="304920"/>
            <a:ext cx="665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 - Presenza/assenza dell’offerta scolastica nella provincia di Orist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54100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2286000"/>
            <a:ext cx="14472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95840" y="68580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scienti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94760" y="91440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class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3680" y="1143000"/>
            <a:ext cx="16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stituto magistrale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ocio-psico-pedagog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93680" y="160020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lingui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5840" y="1828800"/>
            <a:ext cx="12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artistico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d’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990720"/>
            <a:ext cx="14472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93680" y="223992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industr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8000" y="246852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96920" y="269712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1981080"/>
            <a:ext cx="144720" cy="14472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44956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3048120"/>
            <a:ext cx="1447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7640" y="2895480"/>
            <a:ext cx="159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95480" y="330660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agr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1295280"/>
            <a:ext cx="144720" cy="1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1676520"/>
            <a:ext cx="144720" cy="144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76212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251460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2743200"/>
            <a:ext cx="144720" cy="144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3352680"/>
            <a:ext cx="14472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365760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96200" y="3505320"/>
            <a:ext cx="163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le attivit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396252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93680" y="388620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nau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8880" y="4191120"/>
            <a:ext cx="144720" cy="14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5120" y="4114800"/>
            <a:ext cx="161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il tur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12080" y="4343400"/>
            <a:ext cx="163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ustria e artigian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47242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l’agrico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 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2880" y="525780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i servizi 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26120" y="6141960"/>
            <a:ext cx="188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 i servizi alberghieri, della risto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571500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 i servizi commerciali, turisti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49528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0" y="587520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625644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9000" y="167652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5113440"/>
            <a:ext cx="14472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20574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4280" y="237024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70440" y="602784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397044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3817800"/>
            <a:ext cx="144360" cy="14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3513240"/>
            <a:ext cx="1443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74800" y="3733920"/>
            <a:ext cx="14472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89412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51120" y="3886200"/>
            <a:ext cx="144360" cy="144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39625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412272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46200" y="3665520"/>
            <a:ext cx="14472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3505320"/>
            <a:ext cx="14472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51120" y="556272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0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naut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4572000" y="3276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362320" y="37339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1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per il turismo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4572000" y="3276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362320" y="37339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6200" y="1828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2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professionale – Corsi qual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4572000" y="3276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28195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71600" y="47242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36232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66880" y="23623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3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professionale – Corsi post qual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4572000" y="3276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29718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71600" y="47242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666880" y="23623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286000" y="37339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4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scient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2666880" y="16765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05520" y="2133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52680" y="33526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5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class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3352680" y="33526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6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magistr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3352680" y="33526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7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linguist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3352680" y="33526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8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artistica (istituti d’arte)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3429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35053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9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commerci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3429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343400" y="5562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52680" y="51055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nuoro2" descr=""/>
          <p:cNvPicPr/>
          <p:nvPr/>
        </p:nvPicPr>
        <p:blipFill>
          <a:blip r:embed="rId1"/>
          <a:stretch/>
        </p:blipFill>
        <p:spPr>
          <a:xfrm>
            <a:off x="76320" y="611280"/>
            <a:ext cx="8839080" cy="6246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078200" y="304920"/>
            <a:ext cx="64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 - Presenza/assenza dell’offerta scolastica nella provincia di Nuo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54100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2286000"/>
            <a:ext cx="14472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95840" y="68580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scienti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4760" y="91440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class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3680" y="1143000"/>
            <a:ext cx="16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stituto magistrale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ocio-psico-pedagog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3680" y="160020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lingui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5840" y="1828800"/>
            <a:ext cx="12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artistico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d’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46800" y="990720"/>
            <a:ext cx="14472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93680" y="223992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industr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0" y="246852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96920" y="269712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1981080"/>
            <a:ext cx="144720" cy="14472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65920" y="44956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238880" y="3048120"/>
            <a:ext cx="1447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97640" y="2895480"/>
            <a:ext cx="159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95480" y="330660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agr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8880" y="1295280"/>
            <a:ext cx="144720" cy="1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38880" y="1676520"/>
            <a:ext cx="144720" cy="144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76212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38880" y="251460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2743200"/>
            <a:ext cx="144720" cy="144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8880" y="3352680"/>
            <a:ext cx="14472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38880" y="365760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96200" y="3505320"/>
            <a:ext cx="163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le attivit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396252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93680" y="388620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nau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4191120"/>
            <a:ext cx="144720" cy="14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5120" y="4114800"/>
            <a:ext cx="161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il tur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12080" y="4343400"/>
            <a:ext cx="163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ustria e artigian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10280" y="47242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l’agrico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 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22880" y="525780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i servizi 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26120" y="6141960"/>
            <a:ext cx="188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 i servizi alberghieri, della risto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571500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 i servizi commerciali, turisti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49528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0" y="587520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0" y="625644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70640" y="397044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2209680"/>
            <a:ext cx="14436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282744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70040" y="2903400"/>
            <a:ext cx="144360" cy="1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3132000"/>
            <a:ext cx="144720" cy="144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5120" y="29718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44197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42040" y="3132000"/>
            <a:ext cx="14436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46400" y="4038480"/>
            <a:ext cx="144720" cy="1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94120" y="374184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388620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36920" y="533412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557064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37120" y="557064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549432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27440" y="503712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5181480"/>
            <a:ext cx="144360" cy="14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13440" y="502920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65720" y="503712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5189400"/>
            <a:ext cx="144360" cy="1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18000" y="5265720"/>
            <a:ext cx="144720" cy="144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5265720"/>
            <a:ext cx="14436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3048120"/>
            <a:ext cx="14472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8120" y="320040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3276720"/>
            <a:ext cx="14472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3429000"/>
            <a:ext cx="144720" cy="144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28800" y="343692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84440" y="34290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17800" y="282744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7180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2979720"/>
            <a:ext cx="14472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2827440"/>
            <a:ext cx="144720" cy="144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14800" y="297972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97972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75000" y="3132000"/>
            <a:ext cx="144720" cy="144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38480" y="3124080"/>
            <a:ext cx="14472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32004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27640" y="3056040"/>
            <a:ext cx="14436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27840" y="2674800"/>
            <a:ext cx="144360" cy="144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62520" y="602784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08520" y="59436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9720" y="503712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72200" y="214164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7280" y="1981080"/>
            <a:ext cx="14472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21337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71800" y="442764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08320" y="44197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9200" y="4419720"/>
            <a:ext cx="14472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2720" y="480852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5000" y="480060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4724280"/>
            <a:ext cx="144720" cy="144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75200" y="487692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46483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9240" y="49528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38680" y="4952880"/>
            <a:ext cx="144720" cy="1447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46600" y="465624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0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geometri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3429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1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industri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3429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029200" y="4800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2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per il turismo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3429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3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professionale – Corsi qual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3429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181480" y="22096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4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professionale – Corsi post qual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3429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181480" y="22096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5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scient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1143000" y="2971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53341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952880" y="53341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257800" y="47242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648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733920" y="4343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40384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6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class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143000" y="2971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57800" y="47242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67080" y="38862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8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638680" y="39625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7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magistr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5257800" y="47242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267080" y="38862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648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8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linguist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5257800" y="47242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52880" y="53341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48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657600" y="53341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9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artistica (istituti d’arte)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5257800" y="47242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sassari2" descr=""/>
          <p:cNvPicPr/>
          <p:nvPr/>
        </p:nvPicPr>
        <p:blipFill>
          <a:blip r:embed="rId1"/>
          <a:stretch/>
        </p:blipFill>
        <p:spPr>
          <a:xfrm>
            <a:off x="0" y="449280"/>
            <a:ext cx="9067680" cy="6408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078560" y="228600"/>
            <a:ext cx="650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 - Presenza/assenza dell’offerta scolastica nella provincia di Sass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533412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2209680"/>
            <a:ext cx="144360" cy="144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8120" y="60948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scienti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47400" y="8380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class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45960" y="1066680"/>
            <a:ext cx="16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stituto magistrale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ocio-psico-pedagog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5960" y="152388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lingui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48120" y="1752480"/>
            <a:ext cx="12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artistico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d’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391520" y="91440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5960" y="216360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industr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50280" y="239220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49560" y="262080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91520" y="1905120"/>
            <a:ext cx="14436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10280" y="441972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91520" y="297180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50280" y="2819520"/>
            <a:ext cx="159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47760" y="323064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agr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91520" y="1219320"/>
            <a:ext cx="1443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91520" y="1600200"/>
            <a:ext cx="144360" cy="144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91520" y="68580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91520" y="2438280"/>
            <a:ext cx="144360" cy="144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91520" y="2666880"/>
            <a:ext cx="144360" cy="144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391520" y="327672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91520" y="358128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48480" y="3429000"/>
            <a:ext cx="163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le attivit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91520" y="388620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545960" y="380988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nau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91520" y="4114800"/>
            <a:ext cx="144360" cy="14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47400" y="4038480"/>
            <a:ext cx="161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il tur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164720" y="4267080"/>
            <a:ext cx="163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ustria e artigian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62920" y="464832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l’agrico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 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75520" y="518148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i servizi 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78760" y="6066000"/>
            <a:ext cx="188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 i servizi alberghieri, della risto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563868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 i servizi commerciali, turisti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10280" y="487692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10280" y="579924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10280" y="618012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411480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74600" y="4579920"/>
            <a:ext cx="14472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50920" y="4343400"/>
            <a:ext cx="14436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435132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90720" y="41148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411480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434340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9040"/>
            <a:ext cx="14436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5880" y="205740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70640" y="20574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9880" y="4960800"/>
            <a:ext cx="14472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95680" y="526572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14800" y="511344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36920" y="4952880"/>
            <a:ext cx="144360" cy="14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71800" y="51055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52880" y="4038480"/>
            <a:ext cx="14472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81480" y="434340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290340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90920" y="297972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05120" y="43434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638680" y="1227240"/>
            <a:ext cx="14472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1371600"/>
            <a:ext cx="1443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19920" y="1531800"/>
            <a:ext cx="14436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5880" y="297180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2438280"/>
            <a:ext cx="144720" cy="14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5880" y="2522520"/>
            <a:ext cx="14472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99240" y="2674800"/>
            <a:ext cx="144360" cy="144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951520" y="274320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2400" y="297180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24480" y="2666880"/>
            <a:ext cx="144720" cy="1447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43400" y="37339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388620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396252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4191120"/>
            <a:ext cx="1443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419112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94320" y="1760400"/>
            <a:ext cx="14436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81280" y="320040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4400" y="327672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328464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9520" y="32767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5410080"/>
            <a:ext cx="14436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15238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81080" y="365760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76520" y="374184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71600" y="3505320"/>
            <a:ext cx="1443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3817800"/>
            <a:ext cx="144360" cy="144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43000" y="365760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22320" y="358128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2120" y="3581280"/>
            <a:ext cx="144360" cy="144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" y="350532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3741840"/>
            <a:ext cx="144720" cy="144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38098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373392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3581280"/>
            <a:ext cx="152280" cy="144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84440" y="3505320"/>
            <a:ext cx="14436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251460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19720" y="2743200"/>
            <a:ext cx="15228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2979720"/>
            <a:ext cx="14436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43400" y="3208320"/>
            <a:ext cx="14436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0" y="304812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1240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09680" y="464832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281952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0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commerci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1219320" y="2971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67080" y="38862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733920" y="53341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952880" y="53341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62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57200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5880" y="20574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733920" y="4343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62720" y="4114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1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geometri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4267080" y="38862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733920" y="53341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362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5880" y="20574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105520" y="46483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2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industri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457200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733920" y="4343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562720" y="40384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3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per il turismo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1143000" y="2971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2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5880" y="20574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4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professionale – Corsi qual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4800600" y="5257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48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733920" y="4343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143000" y="2971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62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562720" y="40384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5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professionale – Corsi post qual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4800600" y="5257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648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733920" y="4343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43000" y="2971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362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562720" y="40384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6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scient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1676520" y="41911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638680" y="19810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343400" y="4800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048120" y="27432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25909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038480" y="38098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666880" y="48006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209680" y="33526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800600" y="2514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7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class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2286000" y="3429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248520" y="25909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038480" y="38098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46483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952880" y="25146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8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artist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4952880" y="25146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9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magistr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6248520" y="2666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676520" y="4114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8769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876920" y="2514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362320" y="3429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licei2" descr=""/>
          <p:cNvPicPr/>
          <p:nvPr/>
        </p:nvPicPr>
        <p:blipFill>
          <a:blip r:embed="rId1"/>
          <a:stretch/>
        </p:blipFill>
        <p:spPr>
          <a:xfrm>
            <a:off x="76320" y="436680"/>
            <a:ext cx="9086760" cy="6421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838080" y="7632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 - Grado di diversificazione dell’offerta scolastica in Sardegna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19520" y="350532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scienti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18800" y="384012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class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17360" y="4191120"/>
            <a:ext cx="16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stituto magistrale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ocio-psico-pedagog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317360" y="467820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lingui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62920" y="358128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3886200"/>
            <a:ext cx="152280" cy="152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62920" y="4267080"/>
            <a:ext cx="152280" cy="22860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62920" y="4724280"/>
            <a:ext cx="152280" cy="152640"/>
          </a:xfrm>
          <a:custGeom>
            <a:avLst/>
            <a:gdLst>
              <a:gd name="textAreaLeft" fmla="*/ 33480 w 152280"/>
              <a:gd name="textAreaRight" fmla="*/ 118800 w 152280"/>
              <a:gd name="textAreaTop" fmla="*/ 33480 h 152640"/>
              <a:gd name="textAreaBottom" fmla="*/ 11916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67080" y="1600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22096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724280" y="228600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190512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62720" y="358128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81480" y="4191120"/>
            <a:ext cx="381240" cy="304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52880" y="480060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38480" y="411480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6200" y="579132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29000" y="36576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3657600"/>
            <a:ext cx="380880" cy="38088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648320"/>
            <a:ext cx="380880" cy="38088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00600" y="3048120"/>
            <a:ext cx="380880" cy="38088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25146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0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linguist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248520" y="2666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876920" y="2514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362320" y="3429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1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artistica (istituti d’arte)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7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2362320" y="3429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2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agrari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411480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3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commerci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411480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343400" y="47242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638680" y="36576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248520" y="2666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86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876920" y="2514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048120" y="41911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962520" y="23623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4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geometri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4876920" y="2514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11480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248520" y="2666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286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5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attività sociali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2286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6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industri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2286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248520" y="2666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876920" y="2514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7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naut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2286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8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per il turismo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4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6248520" y="2666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343400" y="4800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9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professionale – Corsi qual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>
            <a:off x="6248520" y="2666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343400" y="4800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638680" y="19051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352680" y="46483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952880" y="32767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733920" y="30481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800600" y="16002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876920" y="2514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artistici" descr=""/>
          <p:cNvPicPr/>
          <p:nvPr/>
        </p:nvPicPr>
        <p:blipFill>
          <a:blip r:embed="rId1"/>
          <a:stretch/>
        </p:blipFill>
        <p:spPr>
          <a:xfrm>
            <a:off x="209520" y="380880"/>
            <a:ext cx="8934480" cy="6477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09480" y="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6 - Grado di diversificazione dell’offerta scolastica in Sardegna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artistic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55960" y="3535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arti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454160" y="384012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d’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238880" y="358128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238880" y="3886200"/>
            <a:ext cx="152640" cy="152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20574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24280" y="205740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10080" y="312408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3429000"/>
            <a:ext cx="38088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67080" y="4876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60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professionale – Corsi post qual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3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6248520" y="2666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343400" y="4800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638680" y="19051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352680" y="46483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952880" y="32767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733920" y="30481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800600" y="16002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86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876920" y="2514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sardegna4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8784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851400" y="272880"/>
            <a:ext cx="77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61 - Dislocazione dei centri/agenzie di formazione in Sardegna per tipologia di s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sardegna3" descr=""/>
          <p:cNvPicPr/>
          <p:nvPr/>
        </p:nvPicPr>
        <p:blipFill>
          <a:blip r:embed="rId1"/>
          <a:stretch/>
        </p:blipFill>
        <p:spPr>
          <a:xfrm>
            <a:off x="0" y="304920"/>
            <a:ext cx="9163080" cy="647532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1002960" y="196920"/>
            <a:ext cx="756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62 - Numerosità dei centri/agenzie di formazione in Sardegna e loro dislo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955960" y="1905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487600" y="10666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505320" y="39625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19520" y="23353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352680" y="17524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352680" y="23353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124080" y="25909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581280" y="24382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630600" y="1905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859200" y="17524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809880" y="21826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038480" y="19540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316400" y="16495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200400" y="20574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402000" y="20574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54280" y="22096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267080" y="18288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316400" y="22096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392720" y="19810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697280" y="19810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52880" y="18288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97280" y="15238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562720" y="14479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078520" y="22860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697280" y="22860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621320" y="25639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25909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545000" y="27432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038480" y="24112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087800" y="26668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81280" y="28954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200400" y="29718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809880" y="31240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316400" y="3021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095880" y="19810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221520" y="24382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145200" y="27925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840280" y="30481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535720" y="3021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154480" y="29718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25880" y="33526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724280" y="35542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876920" y="37069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800600" y="38592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572000" y="37069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68880" y="40114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840280" y="41641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764320" y="43434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307120" y="46972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307120" y="39355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925880" y="44686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468680" y="42400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73600" y="43164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124080" y="48006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554280" y="47736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05320" y="50785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200400" y="54594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200400" y="57643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021120" y="57643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971800" y="62215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478320" y="62974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402000" y="60688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9880" y="60688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657600" y="58402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087800" y="63738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240080" y="62485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392720" y="60688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343400" y="59166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191120" y="56116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468680" y="55627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697280" y="58402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" rIns="252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773600" y="55627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21320" y="54594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114800" y="58402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886200" y="56116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087800" y="54864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316400" y="54100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164120" y="5334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316400" y="51814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91120" y="50022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114800" y="51544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809880" y="51544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164120" y="48499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886200" y="49258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114800" y="46972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343400" y="47242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267080" y="45450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343400" y="44686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621320" y="49258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773600" y="49528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925880" y="49258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800600" y="48006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773600" y="46213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002200" y="5307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181480" y="54594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459400" y="50785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840280" y="54594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15000" y="56880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715000" y="58672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307120" y="57150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486400" y="57643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316400" y="38862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164120" y="37339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038480" y="35542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59200" y="34290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962520" y="4164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886200" y="38862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657600" y="37069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429000" y="35542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124080" y="37069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429000" y="37339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48120" y="38862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554280" y="41911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52680" y="43927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505320" y="44686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809880" y="45720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733920" y="41148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962520" y="43434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276720" y="39355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ecnici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4038480" y="1676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1981080"/>
            <a:ext cx="381240" cy="38124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2057400"/>
            <a:ext cx="38088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29200" y="175248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33526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562720" y="3200400"/>
            <a:ext cx="380880" cy="38088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81480" y="4952880"/>
            <a:ext cx="381240" cy="38124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342900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657600" y="4800600"/>
            <a:ext cx="38088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1480" y="403848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38480" y="3886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48320" y="4876920"/>
            <a:ext cx="30456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2590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57800" y="365760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548640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54160" y="350532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industr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58120" y="384012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57400" y="422100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51640" y="4572000"/>
            <a:ext cx="161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238880" y="358128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886200"/>
            <a:ext cx="152640" cy="152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4267080"/>
            <a:ext cx="152640" cy="22860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724280"/>
            <a:ext cx="152640" cy="152640"/>
          </a:xfrm>
          <a:custGeom>
            <a:avLst/>
            <a:gdLst>
              <a:gd name="textAreaLeft" fmla="*/ 33480 w 152640"/>
              <a:gd name="textAreaRight" fmla="*/ 119160 w 152640"/>
              <a:gd name="textAreaTop" fmla="*/ 33480 h 152640"/>
              <a:gd name="textAreaBottom" fmla="*/ 11916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-76320"/>
            <a:ext cx="7696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7 - Grado di diversificazione dell’offerta scolastica in Sardegna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(Tecnico industriale, commerciale e per geometr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ecnici2" descr=""/>
          <p:cNvPicPr/>
          <p:nvPr/>
        </p:nvPicPr>
        <p:blipFill>
          <a:blip r:embed="rId1"/>
          <a:stretch/>
        </p:blipFill>
        <p:spPr>
          <a:xfrm>
            <a:off x="0" y="39528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7455600" y="353520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agr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56680" y="3840120"/>
            <a:ext cx="163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le attivit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54160" y="429732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nau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451640" y="4648320"/>
            <a:ext cx="16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il tur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38880" y="358128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3962520"/>
            <a:ext cx="152640" cy="152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38880" y="4343400"/>
            <a:ext cx="152640" cy="22860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8880" y="4800600"/>
            <a:ext cx="152640" cy="152280"/>
          </a:xfrm>
          <a:custGeom>
            <a:avLst/>
            <a:gdLst>
              <a:gd name="textAreaLeft" fmla="*/ 33480 w 152640"/>
              <a:gd name="textAreaRight" fmla="*/ 119160 w 15264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7600" y="2209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00600" y="1676520"/>
            <a:ext cx="380880" cy="38088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81480" y="114300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657600" y="541008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86400" y="3505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34120" y="49528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1280" y="472428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419720" y="47242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-76320"/>
            <a:ext cx="7696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8 - Grado di diversificazione dell’offerta scolastica in Sardegna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(Tecnico agrario, per le attività sociali,nautico e per il turism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rofessionali" descr=""/>
          <p:cNvPicPr/>
          <p:nvPr/>
        </p:nvPicPr>
        <p:blipFill>
          <a:blip r:embed="rId1"/>
          <a:stretch/>
        </p:blipFill>
        <p:spPr>
          <a:xfrm>
            <a:off x="0" y="32868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380880" y="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9 - Grado di diversificazione dell’offerta scolastica in Sardegna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profess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17000" y="3352680"/>
            <a:ext cx="167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ustria e artigian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315200" y="388620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l’agricoltura 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316640" y="457200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i servizi 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315200" y="5715000"/>
            <a:ext cx="161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 i servizi alberghieri, della risto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5943600"/>
            <a:ext cx="152280" cy="152280"/>
          </a:xfrm>
          <a:prstGeom prst="pentagon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362320"/>
            <a:ext cx="304560" cy="304560"/>
          </a:xfrm>
          <a:prstGeom prst="pentagon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301520" y="5075280"/>
            <a:ext cx="1805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 servizi commercial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uristi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19720" y="1295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10080" y="4800600"/>
            <a:ext cx="381240" cy="38088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81480" y="182880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205740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91320" y="320040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562720" y="3733920"/>
            <a:ext cx="304560" cy="304560"/>
          </a:xfrm>
          <a:prstGeom prst="pentagon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91320" y="2514600"/>
            <a:ext cx="380880" cy="38088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6920" y="3962520"/>
            <a:ext cx="380880" cy="304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31240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3200400"/>
            <a:ext cx="381240" cy="38088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14800" y="3657600"/>
            <a:ext cx="38088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33920" y="41148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029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472428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91120" y="5105520"/>
            <a:ext cx="304560" cy="304560"/>
          </a:xfrm>
          <a:prstGeom prst="pentagon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81280" y="5562720"/>
            <a:ext cx="381240" cy="304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3505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86600" y="4114800"/>
            <a:ext cx="152280" cy="152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86600" y="4724280"/>
            <a:ext cx="152280" cy="22860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86600" y="5334120"/>
            <a:ext cx="152280" cy="152280"/>
          </a:xfrm>
          <a:custGeom>
            <a:avLst/>
            <a:gdLst>
              <a:gd name="textAreaLeft" fmla="*/ 33480 w 152280"/>
              <a:gd name="textAreaRight" fmla="*/ 118800 w 15228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17:04:55Z</dcterms:created>
  <dc:creator>C1Ced</dc:creator>
  <dc:description/>
  <dc:language>en-US</dc:language>
  <cp:lastModifiedBy>Roberta Bernardi</cp:lastModifiedBy>
  <dcterms:modified xsi:type="dcterms:W3CDTF">2003-12-23T10:33:36Z</dcterms:modified>
  <cp:revision>18</cp:revision>
  <dc:subject/>
  <dc:title>Presentazione di PowerPoint</dc:title>
</cp:coreProperties>
</file>